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FA3-EEDC-4C96-A375-46C51B32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67B-83CC-4885-B335-4AAEFA9A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A42-C297-4583-AB66-6ED48425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471-21D6-4248-B28C-FB6DFDAA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8DF-D18A-4455-8FCC-09F29E26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F05-0FED-445B-B695-371CE9F6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347-36DF-49F0-A270-036B9D4B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F9A-2A24-4EC8-BDC4-0C16DAAA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1B3-2C85-41E6-BCE9-BB852F7C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132-B379-4436-A568-21AB6C49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944-15A7-4C5F-82A9-0734FD69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726-B925-4BF2-A258-419D254E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A54F-EDA1-49F4-B889-10F7BFB91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762120" y="914400"/>
            <a:ext cx="761976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s figurantes semblent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à la fois d’être  de face, 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e trois quart, de dos, et de profil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533520" y="914400"/>
            <a:ext cx="807696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uleurs violentes, pures et vives,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éparées de la réalité 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e couleur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066680" y="990720"/>
            <a:ext cx="70866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essai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ntrer un rê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143000" y="990720"/>
            <a:ext cx="64008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une remise à 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a table rase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143000" y="1219320"/>
            <a:ext cx="731520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llanda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990720" y="990720"/>
            <a:ext cx="68580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Ru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752480" y="1219320"/>
            <a:ext cx="59436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Bel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143000" y="1066680"/>
            <a:ext cx="66294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spañ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Du sud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371600" y="1143000"/>
            <a:ext cx="61722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spañ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du nord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447920" y="1066680"/>
            <a:ext cx="60958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ist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mémo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sty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752480" y="1295280"/>
            <a:ext cx="52578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moise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Avign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752480" y="1066680"/>
            <a:ext cx="58676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manc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a Grande Jat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143000" y="1371600"/>
            <a:ext cx="68580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Nue Ble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447920" y="914400"/>
            <a:ext cx="60195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lcon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828800" y="1295280"/>
            <a:ext cx="541008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hit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600200" y="1219320"/>
            <a:ext cx="586728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523880" y="1219320"/>
            <a:ext cx="601992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ul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u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523880" y="1143000"/>
            <a:ext cx="56390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ns visag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219320"/>
            <a:ext cx="58676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371600" y="1447920"/>
            <a:ext cx="63244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è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é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ut le Mon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ent à Par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143000" y="1143000"/>
            <a:ext cx="66294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rni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une fami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istocr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990720" y="1066680"/>
            <a:ext cx="701028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ill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990720" y="1143000"/>
            <a:ext cx="67053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l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1295280" y="1371600"/>
            <a:ext cx="64008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ll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523880" y="1219320"/>
            <a:ext cx="62485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lynés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ançai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219320" y="1219320"/>
            <a:ext cx="6629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905120" y="1600200"/>
            <a:ext cx="5257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imiez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1143000" y="1371600"/>
            <a:ext cx="67057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int Pau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371600" y="990720"/>
            <a:ext cx="6248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Cataluña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pañ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eint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éculiarit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luen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toi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è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endro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066680" y="2514600"/>
            <a:ext cx="6705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fiez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éculiartité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fluenc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oi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n sty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référé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ndroi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dentifiez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990720" y="1295280"/>
            <a:ext cx="69339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ambes cassé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295280" y="1447920"/>
            <a:ext cx="64008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orei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thè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éfér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752480" y="1828800"/>
            <a:ext cx="60199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t à 31 a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dipthér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moustac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oubli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600200" y="1371600"/>
            <a:ext cx="57913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uif, obsédé p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scènes de la Bi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600200" y="2057400"/>
            <a:ext cx="59436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ê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752480" y="1828800"/>
            <a:ext cx="58676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295280" y="1143000"/>
            <a:ext cx="6248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guer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ivile en Espag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676520" y="1371600"/>
            <a:ext cx="57909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hémienn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servi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litai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Br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uérnic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fami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371600" y="1143000"/>
            <a:ext cx="66294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Nu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oil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219320" y="1143000"/>
            <a:ext cx="6629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istence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émo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838080" y="914400"/>
            <a:ext cx="71629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manche Après-mid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a Grande Jat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066680" y="1219320"/>
            <a:ext cx="67057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lcon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143000" y="1905120"/>
            <a:ext cx="66294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l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523880" y="1219320"/>
            <a:ext cx="59436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ur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219320" y="1371600"/>
            <a:ext cx="67816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i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905120" y="2438280"/>
            <a:ext cx="5257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Cham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838080" y="1066680"/>
            <a:ext cx="723924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ugu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ulin Rou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990720" y="1600200"/>
            <a:ext cx="716256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Paris à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762120" y="990720"/>
            <a:ext cx="784836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pér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Par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lynés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ançai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nt de Cimiez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N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838080" y="1295280"/>
            <a:ext cx="76201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llio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6"/>
          <p:cNvSpPr txBox="1"/>
          <p:nvPr/>
        </p:nvSpPr>
        <p:spPr>
          <a:xfrm>
            <a:off x="2819520" y="541008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l'a pei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3" name="Picture 5" descr="guernica.jpg"/>
          <p:cNvPicPr/>
          <p:nvPr/>
        </p:nvPicPr>
        <p:blipFill>
          <a:blip r:embed="rId1"/>
          <a:stretch/>
        </p:blipFill>
        <p:spPr>
          <a:xfrm>
            <a:off x="914400" y="1600200"/>
            <a:ext cx="7605720" cy="452268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6" descr=""/>
          <p:cNvPicPr/>
          <p:nvPr/>
        </p:nvPicPr>
        <p:blipFill>
          <a:blip r:embed="rId2"/>
          <a:stretch/>
        </p:blipFill>
        <p:spPr>
          <a:xfrm>
            <a:off x="2584440" y="785880"/>
            <a:ext cx="420696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dali1.jpg"/>
          <p:cNvPicPr/>
          <p:nvPr/>
        </p:nvPicPr>
        <p:blipFill>
          <a:blip r:embed="rId1"/>
          <a:stretch/>
        </p:blipFill>
        <p:spPr>
          <a:xfrm>
            <a:off x="685800" y="914400"/>
            <a:ext cx="4495680" cy="5549760"/>
          </a:xfrm>
          <a:prstGeom prst="rect">
            <a:avLst/>
          </a:prstGeom>
          <a:ln w="0">
            <a:noFill/>
          </a:ln>
        </p:spPr>
      </p:pic>
      <p:pic>
        <p:nvPicPr>
          <p:cNvPr id="196" name="WordArt 4" descr=""/>
          <p:cNvPicPr/>
          <p:nvPr/>
        </p:nvPicPr>
        <p:blipFill>
          <a:blip r:embed="rId2"/>
          <a:stretch/>
        </p:blipFill>
        <p:spPr>
          <a:xfrm>
            <a:off x="4334040" y="3571920"/>
            <a:ext cx="41335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4"/>
          <p:cNvSpPr txBox="1"/>
          <p:nvPr/>
        </p:nvSpPr>
        <p:spPr>
          <a:xfrm>
            <a:off x="1752480" y="175248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l'a pei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8" name="Picture 3" descr="seurat_un_dimanche_a_l'ile_de_la_grande_jatte.jpg"/>
          <p:cNvPicPr/>
          <p:nvPr/>
        </p:nvPicPr>
        <p:blipFill>
          <a:blip r:embed="rId1"/>
          <a:stretch/>
        </p:blipFill>
        <p:spPr>
          <a:xfrm>
            <a:off x="1981080" y="2590920"/>
            <a:ext cx="55627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gauguin_arearea.jpg"/>
          <p:cNvPicPr/>
          <p:nvPr/>
        </p:nvPicPr>
        <p:blipFill>
          <a:blip r:embed="rId1"/>
          <a:stretch/>
        </p:blipFill>
        <p:spPr>
          <a:xfrm>
            <a:off x="1143000" y="914400"/>
            <a:ext cx="7018200" cy="5440320"/>
          </a:xfrm>
          <a:prstGeom prst="rect">
            <a:avLst/>
          </a:prstGeom>
          <a:ln w="0">
            <a:noFill/>
          </a:ln>
        </p:spPr>
      </p:pic>
      <p:sp>
        <p:nvSpPr>
          <p:cNvPr id="200" name="WordArt 4"/>
          <p:cNvSpPr txBox="1"/>
          <p:nvPr/>
        </p:nvSpPr>
        <p:spPr>
          <a:xfrm>
            <a:off x="2362320" y="99072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l'a pei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2438280" y="99072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l'a pei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2" name="Picture 3" descr="paintings-by-henri-de-toulouse-lautrec-2.jpg"/>
          <p:cNvPicPr/>
          <p:nvPr/>
        </p:nvPicPr>
        <p:blipFill>
          <a:blip r:embed="rId1"/>
          <a:stretch/>
        </p:blipFill>
        <p:spPr>
          <a:xfrm>
            <a:off x="1523880" y="1828800"/>
            <a:ext cx="58676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4" name="WordArt 3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Musée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ty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 Par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eintu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èm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amil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e Par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ans que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usée à Par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e trouvent les œuvre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e ces artistes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entr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ompidou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914400" y="1066680"/>
            <a:ext cx="75438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un ensemble de 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oints de 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uleur pure juxtaposés 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2-05-06T10:23:56Z</dcterms:modified>
  <cp:revision>61</cp:revision>
  <dc:subject/>
  <dc:title>No Slide Title</dc:title>
</cp:coreProperties>
</file>